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ADF2-BA39-4869-914F-6DBE50D2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76AE-7F3A-47AF-9CB4-2DA79CCF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96C4-64DD-4F24-BB51-2EAFF4472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D598-5A45-4549-9F40-2011D1C9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7C2C-9F6D-4208-9E63-7834C3F5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4F5E-FEB8-4E7F-8B3D-14888BFF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C178-FF2E-4137-B730-8A07308D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77B3-BCE4-4C8D-B947-7962F2FA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7337-72BD-4B9F-BB45-056133B5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9671-6C49-4249-8B04-9220ED10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0EE0-800C-4082-BB84-812D6D6D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6B0A-499B-4AB7-B368-201E0D51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5736-FBBF-4A38-B72E-D60BC41AE7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95120" y="2185920"/>
            <a:ext cx="875376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853740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يوسف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سم يوسف عليه السلا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معظم السورة تتحدث عن قصت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يوسف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1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يوسف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هو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عقيدة التوحي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>
            <a:off x="8820000" y="1662120"/>
            <a:ext cx="0" cy="1282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قصة يوسف عليه ال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أهداف وغايات القصص القرآن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5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3"/>
          <a:stretch/>
        </p:blipFill>
        <p:spPr>
          <a:xfrm>
            <a:off x="1139760" y="1438200"/>
            <a:ext cx="766944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0T05:11:03Z</dcterms:modified>
  <cp:revision>1802</cp:revision>
  <dc:subject/>
  <dc:title>عرض تقديمي في PowerPoint</dc:title>
</cp:coreProperties>
</file>